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11430000" cy="9144000"/>
  <p:notesSz cx="6796088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BF667-9373-4848-A1B5-6875C7F2B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533160"/>
            <a:ext cx="971568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57160" y="2641680"/>
            <a:ext cx="9715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57160" y="5507640"/>
            <a:ext cx="9715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FA539-430C-4264-92CA-D35E172E3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533160"/>
            <a:ext cx="971568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57160" y="2641680"/>
            <a:ext cx="4741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835960" y="2641680"/>
            <a:ext cx="4741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57160" y="5507640"/>
            <a:ext cx="4741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835960" y="5507640"/>
            <a:ext cx="4741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3E69C-240E-4BE2-B94B-B399C4C1F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14400" y="533160"/>
            <a:ext cx="971568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57160" y="2641680"/>
            <a:ext cx="31280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142160" y="2641680"/>
            <a:ext cx="31280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7426800" y="2641680"/>
            <a:ext cx="31280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857160" y="5507640"/>
            <a:ext cx="31280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142160" y="5507640"/>
            <a:ext cx="31280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7426800" y="5507640"/>
            <a:ext cx="31280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08FB1-B50F-4A3C-A2B4-810875155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C3E80-E1C1-464F-A89F-1F464682D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400" y="533160"/>
            <a:ext cx="971568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857160" y="2641680"/>
            <a:ext cx="971568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40207-9469-4702-95D7-91B63506C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533160"/>
            <a:ext cx="971568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57160" y="2641680"/>
            <a:ext cx="97156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FAD31-0CBF-4486-B3C3-DDB93BFD6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533160"/>
            <a:ext cx="971568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57160" y="2641680"/>
            <a:ext cx="4741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835960" y="2641680"/>
            <a:ext cx="4741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8161F-687F-424B-907C-7499FF258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400" y="533160"/>
            <a:ext cx="971568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642DF-D3C4-4296-81E8-C8B9A1B0A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914400" y="533160"/>
            <a:ext cx="971568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9361E-2C72-4008-AA54-304B054A6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533160"/>
            <a:ext cx="971568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57160" y="2641680"/>
            <a:ext cx="4741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835960" y="2641680"/>
            <a:ext cx="4741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857160" y="5507640"/>
            <a:ext cx="4741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83B64-2D28-417C-A2D5-DD730C7CB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400" y="533160"/>
            <a:ext cx="971568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857160" y="2641680"/>
            <a:ext cx="971568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17CD5-733A-4F30-AC41-7627B6561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33160"/>
            <a:ext cx="971568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57160" y="2641680"/>
            <a:ext cx="4741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835960" y="2641680"/>
            <a:ext cx="4741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835960" y="5507640"/>
            <a:ext cx="4741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B4130-01A2-475B-869C-6D195A8B2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33160"/>
            <a:ext cx="971568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57160" y="2641680"/>
            <a:ext cx="4741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835960" y="2641680"/>
            <a:ext cx="4741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57160" y="5507640"/>
            <a:ext cx="9715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98AE1-A786-45A1-8ABB-C3F7119F4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533160"/>
            <a:ext cx="971568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57160" y="2641680"/>
            <a:ext cx="9715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857160" y="5507640"/>
            <a:ext cx="9715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A0603-807E-4AFD-8302-29DED14A5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400" y="533160"/>
            <a:ext cx="971568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57160" y="2641680"/>
            <a:ext cx="4741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835960" y="2641680"/>
            <a:ext cx="4741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57160" y="5507640"/>
            <a:ext cx="4741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835960" y="5507640"/>
            <a:ext cx="4741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BE69B-7F70-4382-961E-D1CA5F694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400" y="533160"/>
            <a:ext cx="971568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57160" y="2641680"/>
            <a:ext cx="31280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142160" y="2641680"/>
            <a:ext cx="31280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7426800" y="2641680"/>
            <a:ext cx="31280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857160" y="5507640"/>
            <a:ext cx="31280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4142160" y="5507640"/>
            <a:ext cx="31280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7426800" y="5507640"/>
            <a:ext cx="31280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1F60F-D4D2-46D6-B44D-53AA056B3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400" y="533160"/>
            <a:ext cx="971568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57160" y="2641680"/>
            <a:ext cx="97156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22702-AB8B-4A59-B90C-91C146955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533160"/>
            <a:ext cx="971568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57160" y="2641680"/>
            <a:ext cx="4741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835960" y="2641680"/>
            <a:ext cx="4741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B345C-D710-416F-A0A5-2090B540B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533160"/>
            <a:ext cx="971568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16366-75F2-4770-8F57-DDE0425B0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14400" y="533160"/>
            <a:ext cx="971568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764BB-8D74-404A-B847-C9B6D0D64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400" y="533160"/>
            <a:ext cx="971568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57160" y="2641680"/>
            <a:ext cx="4741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835960" y="2641680"/>
            <a:ext cx="4741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857160" y="5507640"/>
            <a:ext cx="4741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D6D77-D025-43AE-86B0-83B54848D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33160"/>
            <a:ext cx="971568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57160" y="2641680"/>
            <a:ext cx="4741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835960" y="2641680"/>
            <a:ext cx="4741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835960" y="5507640"/>
            <a:ext cx="4741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6D80C-B226-4D6E-9C5C-F81C133E1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400" y="533160"/>
            <a:ext cx="971568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57160" y="2641680"/>
            <a:ext cx="4741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835960" y="2641680"/>
            <a:ext cx="4741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857160" y="5507640"/>
            <a:ext cx="9715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AFAC4-E8C6-4982-8D7A-68024CE4C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512360" y="1440"/>
            <a:ext cx="21927240" cy="18255240"/>
            <a:chOff x="-10512360" y="1440"/>
            <a:chExt cx="21927240" cy="18255240"/>
          </a:xfrm>
        </p:grpSpPr>
        <p:sp>
          <p:nvSpPr>
            <p:cNvPr id="1" name=""/>
            <p:cNvSpPr/>
            <p:nvPr/>
          </p:nvSpPr>
          <p:spPr>
            <a:xfrm>
              <a:off x="6734520" y="2113920"/>
              <a:ext cx="4680360" cy="701532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10512360" y="1440"/>
              <a:ext cx="21024720" cy="18255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14400" y="533160"/>
            <a:ext cx="971568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856800" y="8331120"/>
            <a:ext cx="2381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905280" y="8331120"/>
            <a:ext cx="36194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191080" y="8331120"/>
            <a:ext cx="2381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01322-C511-4E33-BF27-D55F2A4997F5}" type="slidenum"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857160" y="2641680"/>
            <a:ext cx="97156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9701640" y="1947240"/>
            <a:ext cx="21131280" cy="14392800"/>
            <a:chOff x="-9701640" y="1947240"/>
            <a:chExt cx="21131280" cy="14392800"/>
          </a:xfrm>
        </p:grpSpPr>
        <p:sp>
          <p:nvSpPr>
            <p:cNvPr id="45" name=""/>
            <p:cNvSpPr/>
            <p:nvPr/>
          </p:nvSpPr>
          <p:spPr>
            <a:xfrm>
              <a:off x="4089240" y="3612600"/>
              <a:ext cx="7340400" cy="553104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9701640" y="1947240"/>
              <a:ext cx="16815240" cy="14392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17480" y="1015920"/>
            <a:ext cx="971532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856800" y="8331120"/>
            <a:ext cx="2381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905280" y="8331120"/>
            <a:ext cx="36194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8191080" y="8331120"/>
            <a:ext cx="2381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602D9-5291-4F2C-B13C-5497C30A6470}" type="slidenum"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1021104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c66"/>
                </a:solidFill>
                <a:latin typeface="Arial"/>
              </a:rPr>
              <a:t>Staatsaufbau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57600" y="6524640"/>
            <a:ext cx="7162920" cy="2097000"/>
          </a:xfrm>
          <a:prstGeom prst="rect">
            <a:avLst/>
          </a:prstGeom>
          <a:solidFill>
            <a:srgbClr val="66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indent="94320">
              <a:lnSpc>
                <a:spcPct val="10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Kindergärte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94320">
              <a:lnSpc>
                <a:spcPct val="10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Grund- und Hauptschule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94320">
              <a:lnSpc>
                <a:spcPct val="10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Wasser- und Wärmeversorgun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94320">
              <a:lnSpc>
                <a:spcPct val="10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Abwasserbeseitigun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94320">
              <a:lnSpc>
                <a:spcPct val="10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Feuerweh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94320">
              <a:lnSpc>
                <a:spcPct val="10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Schwimmbäd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94320">
              <a:lnSpc>
                <a:spcPct val="10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Sportplätze und -halle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62120" y="6524640"/>
            <a:ext cx="2971800" cy="2097000"/>
          </a:xfrm>
          <a:prstGeom prst="rect">
            <a:avLst/>
          </a:prstGeom>
          <a:solidFill>
            <a:srgbClr val="66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ahoma"/>
              </a:rPr>
              <a:t>GEMEIND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657600" y="4721400"/>
            <a:ext cx="7162920" cy="180324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indent="94320">
              <a:lnSpc>
                <a:spcPct val="10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Krankenhä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94320">
              <a:lnSpc>
                <a:spcPct val="10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Sozial- und Jugendhilf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94320">
              <a:lnSpc>
                <a:spcPct val="10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Abfallbeseitigun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94320">
              <a:lnSpc>
                <a:spcPct val="10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Kreisstraße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94320">
              <a:lnSpc>
                <a:spcPct val="10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berufliche Schule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94320">
              <a:lnSpc>
                <a:spcPct val="10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Sonderschule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62120" y="4721400"/>
            <a:ext cx="2971800" cy="180324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ahoma"/>
              </a:rPr>
              <a:t>LANDKREIS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657600" y="2917800"/>
            <a:ext cx="7162920" cy="180360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indent="9432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de-DE" sz="1600" spc="-1" strike="noStrike">
                <a:solidFill>
                  <a:srgbClr val="ffffff"/>
                </a:solidFill>
                <a:latin typeface="Tahoma"/>
              </a:rPr>
              <a:t>Kultu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9432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de-DE" sz="1600" spc="-1" strike="noStrike">
                <a:solidFill>
                  <a:srgbClr val="ffffff"/>
                </a:solidFill>
                <a:latin typeface="Tahoma"/>
              </a:rPr>
              <a:t>Anstellung der Lehrer (Landesbeamten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9432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de-DE" sz="1600" spc="-1" strike="noStrike">
                <a:solidFill>
                  <a:srgbClr val="ffffff"/>
                </a:solidFill>
                <a:latin typeface="Tahoma"/>
              </a:rPr>
              <a:t>Lehrplän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9432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de-DE" sz="1600" spc="-1" strike="noStrike">
                <a:solidFill>
                  <a:srgbClr val="ffffff"/>
                </a:solidFill>
                <a:latin typeface="Tahoma"/>
              </a:rPr>
              <a:t>Hochschule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9432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de-DE" sz="1600" spc="-1" strike="noStrike">
                <a:solidFill>
                  <a:srgbClr val="ffffff"/>
                </a:solidFill>
                <a:latin typeface="Tahoma"/>
              </a:rPr>
              <a:t>Gericht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9432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de-DE" sz="1600" spc="-1" strike="noStrike">
                <a:solidFill>
                  <a:srgbClr val="ffffff"/>
                </a:solidFill>
                <a:latin typeface="Tahoma"/>
              </a:rPr>
              <a:t>Polize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62120" y="2917800"/>
            <a:ext cx="2895480" cy="180360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Tahoma"/>
              </a:rPr>
              <a:t>LÄNDER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657600" y="1701720"/>
            <a:ext cx="7162920" cy="12160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indent="9432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de-DE" sz="1600" spc="-1" strike="noStrike">
                <a:solidFill>
                  <a:srgbClr val="ffffff"/>
                </a:solidFill>
                <a:latin typeface="Tahoma"/>
              </a:rPr>
              <a:t>Auswärtige Angelegenheite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9432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de-DE" sz="1600" spc="-1" strike="noStrike">
                <a:solidFill>
                  <a:srgbClr val="ffffff"/>
                </a:solidFill>
                <a:latin typeface="Tahoma"/>
              </a:rPr>
              <a:t>Verteidigungsaufgabe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9432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de-DE" sz="1600" spc="-1" strike="noStrike">
                <a:solidFill>
                  <a:srgbClr val="ffffff"/>
                </a:solidFill>
                <a:latin typeface="Tahoma"/>
              </a:rPr>
              <a:t>Bundesfernstraße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9432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de-DE" sz="1600" spc="-1" strike="noStrike">
                <a:solidFill>
                  <a:srgbClr val="ffffff"/>
                </a:solidFill>
                <a:latin typeface="Tahoma"/>
              </a:rPr>
              <a:t>Zol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62120" y="1701720"/>
            <a:ext cx="2971800" cy="12160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Tahoma"/>
              </a:rPr>
              <a:t>BUN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38080" y="1295280"/>
            <a:ext cx="9982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Tahoma"/>
              </a:rPr>
              <a:t>Zuständigkeiten (Beispiele)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62120" y="1295280"/>
            <a:ext cx="411480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62120" y="1295280"/>
            <a:ext cx="100584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62120" y="8621640"/>
            <a:ext cx="100584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62120" y="1295280"/>
            <a:ext cx="0" cy="732636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820520" y="1295280"/>
            <a:ext cx="0" cy="732636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2120" y="1701720"/>
            <a:ext cx="100584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62120" y="2917800"/>
            <a:ext cx="100584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62120" y="4721400"/>
            <a:ext cx="100584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62120" y="6513480"/>
            <a:ext cx="100584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9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400"/>
                            </p:stCondLst>
                            <p:childTnLst>
                              <p:par>
                                <p:cTn id="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900"/>
                            </p:stCondLst>
                            <p:childTnLst>
                              <p:par>
                                <p:cTn id="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533160"/>
            <a:ext cx="971568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c66"/>
                </a:solidFill>
                <a:latin typeface="Arial"/>
              </a:rPr>
              <a:t>Die Behörde des Landkreis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23600" y="3124080"/>
            <a:ext cx="47624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Aft>
                <a:spcPts val="21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cc66"/>
                </a:solidFill>
                <a:latin typeface="Arial"/>
              </a:rPr>
              <a:t>Kommunaler Teil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Der Landkreis fördert das Wohl seiner Einwohner und unterstützt die kreisangehörigen Gemeinden in der Erfüllung ihrer Aufgaben. </a:t>
            </a:r>
            <a:br>
              <a:rPr sz="2400"/>
            </a:br>
            <a:br>
              <a:rPr sz="2400"/>
            </a:b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Rechtsgrundlage: §§ 1 und 2 der LKr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57200" y="2286000"/>
            <a:ext cx="1057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99ff33"/>
                </a:solidFill>
                <a:latin typeface="Tahoma"/>
              </a:rPr>
              <a:t>Das Landratsamt ist eine Körperschaft des öffentlichen Rechts, die intern aus zwei Teilen besteht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286680" y="3124080"/>
            <a:ext cx="476244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>
              <a:lnSpc>
                <a:spcPct val="100000"/>
              </a:lnSpc>
              <a:spcAft>
                <a:spcPts val="21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cc66"/>
                </a:solidFill>
                <a:latin typeface="Arial"/>
              </a:rPr>
              <a:t>Staatlicher Teil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Das Landratsamt als untere Verwaltungsbehörde ist auch eine staatliche Behörde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Staatliche Behörden (Ministerien oder Regierungspräsidium) haben staatliche Aufgaben (z.B. Rechtsaufsicht über die Behörden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Bei Aufgaben des Bundes kommt der Bund für die entstandenen Kosten auf. Rechtsgrundlage: Landesverwaltungsgesetz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75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75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800"/>
                            </p:stCondLst>
                            <p:childTnLst>
                              <p:par>
                                <p:cTn id="66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2000"/>
                            </p:stCondLst>
                            <p:childTnLst>
                              <p:par>
                                <p:cTn id="84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3500"/>
                            </p:stCondLst>
                            <p:childTnLst>
                              <p:par>
                                <p:cTn id="88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5000"/>
                            </p:stCondLst>
                            <p:childTnLst>
                              <p:par>
                                <p:cTn id="92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57160" y="152280"/>
            <a:ext cx="971568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c66"/>
                </a:solidFill>
                <a:latin typeface="Arial"/>
              </a:rPr>
              <a:t>Aufgaben des Landratsamt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2496960" y="2286000"/>
          <a:ext cx="6588360" cy="617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96960" y="2286000"/>
                    <a:ext cx="6588360" cy="617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75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75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800"/>
                            </p:stCondLst>
                            <p:childTnLst>
                              <p:par>
                                <p:cTn id="10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3" name=""/>
          <p:cNvGraphicFramePr/>
          <p:nvPr/>
        </p:nvGraphicFramePr>
        <p:xfrm>
          <a:off x="1814400" y="2355840"/>
          <a:ext cx="7669440" cy="609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14400" y="2355840"/>
                    <a:ext cx="7669440" cy="609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57160" y="-360"/>
            <a:ext cx="971568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c66"/>
                </a:solidFill>
                <a:latin typeface="Arial"/>
              </a:rPr>
              <a:t>So funktioniert der Landkrei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629240" y="272736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Tahoma"/>
              </a:rPr>
              <a:t>Vorsitz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709880" y="2362320"/>
            <a:ext cx="6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Tahoma"/>
              </a:rPr>
              <a:t>wähl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781520" y="318456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Tahoma"/>
              </a:rPr>
              <a:t>Vorsitz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872120" y="2955960"/>
            <a:ext cx="601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Tahoma"/>
              </a:rPr>
              <a:t>leite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133720" y="3124080"/>
            <a:ext cx="761760" cy="533520"/>
          </a:xfrm>
          <a:custGeom>
            <a:avLst/>
            <a:gdLst>
              <a:gd name="textAreaLeft" fmla="*/ 0 w 761760"/>
              <a:gd name="textAreaRight" fmla="*/ 762120 w 76176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ff00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3429000"/>
            <a:ext cx="228600" cy="4572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00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419720" y="2590920"/>
            <a:ext cx="1523880" cy="228600"/>
          </a:xfrm>
          <a:prstGeom prst="rightArrow">
            <a:avLst>
              <a:gd name="adj1" fmla="val 50000"/>
              <a:gd name="adj2" fmla="val 166654"/>
            </a:avLst>
          </a:prstGeom>
          <a:solidFill>
            <a:srgbClr val="ff00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H="1" flipV="1">
            <a:off x="5334120" y="3184560"/>
            <a:ext cx="457200" cy="457200"/>
          </a:xfrm>
          <a:custGeom>
            <a:avLst/>
            <a:gdLst>
              <a:gd name="textAreaLeft" fmla="*/ 152280 w 457200"/>
              <a:gd name="textAreaRight" fmla="*/ 326520 w 457200"/>
              <a:gd name="textAreaTop" fmla="*/ 283320 h 457200"/>
              <a:gd name="textAreaBottom" fmla="*/ 3268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9542"/>
                </a:moveTo>
                <a:lnTo>
                  <a:pt x="13371" y="19542"/>
                </a:lnTo>
                <a:lnTo>
                  <a:pt x="13371" y="7200"/>
                </a:lnTo>
                <a:lnTo>
                  <a:pt x="7200" y="7200"/>
                </a:lnTo>
                <a:lnTo>
                  <a:pt x="14400" y="0"/>
                </a:lnTo>
                <a:lnTo>
                  <a:pt x="21600" y="7200"/>
                </a:lnTo>
                <a:lnTo>
                  <a:pt x="15429" y="7200"/>
                </a:lnTo>
                <a:lnTo>
                  <a:pt x="1542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" bIns="-32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267080" y="2955960"/>
            <a:ext cx="1524240" cy="152280"/>
          </a:xfrm>
          <a:prstGeom prst="leftArrow">
            <a:avLst>
              <a:gd name="adj1" fmla="val 50000"/>
              <a:gd name="adj2" fmla="val 250236"/>
            </a:avLst>
          </a:prstGeom>
          <a:solidFill>
            <a:srgbClr val="ff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rot="5400000">
            <a:off x="7314840" y="3009960"/>
            <a:ext cx="723960" cy="723960"/>
          </a:xfrm>
          <a:custGeom>
            <a:avLst/>
            <a:gdLst>
              <a:gd name="textAreaLeft" fmla="*/ 0 w 723960"/>
              <a:gd name="textAreaRight" fmla="*/ 724320 w 723960"/>
              <a:gd name="textAreaTop" fmla="*/ 0 h 723960"/>
              <a:gd name="textAreaBottom" fmla="*/ 724320 h 7239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0066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566880" y="3429000"/>
            <a:ext cx="6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Tahoma"/>
              </a:rPr>
              <a:t>wähl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585440" y="3184560"/>
            <a:ext cx="6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Tahoma"/>
              </a:rPr>
              <a:t>wähl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75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75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950"/>
                            </p:stCondLst>
                            <p:childTnLst>
                              <p:par>
                                <p:cTn id="11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2450"/>
                            </p:stCondLst>
                            <p:childTnLst>
                              <p:par>
                                <p:cTn id="1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2950"/>
                            </p:stCondLst>
                            <p:childTnLst>
                              <p:par>
                                <p:cTn id="1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3450"/>
                            </p:stCondLst>
                            <p:childTnLst>
                              <p:par>
                                <p:cTn id="13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3950"/>
                            </p:stCondLst>
                            <p:childTnLst>
                              <p:par>
                                <p:cTn id="13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4450"/>
                            </p:stCondLst>
                            <p:childTnLst>
                              <p:par>
                                <p:cTn id="14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4950"/>
                            </p:stCondLst>
                            <p:childTnLst>
                              <p:par>
                                <p:cTn id="14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5450"/>
                            </p:stCondLst>
                            <p:childTnLst>
                              <p:par>
                                <p:cTn id="1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950"/>
                            </p:stCondLst>
                            <p:childTnLst>
                              <p:par>
                                <p:cTn id="15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6450"/>
                            </p:stCondLst>
                            <p:childTnLst>
                              <p:par>
                                <p:cTn id="16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6950"/>
                            </p:stCondLst>
                            <p:childTnLst>
                              <p:par>
                                <p:cTn id="16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7450"/>
                            </p:stCondLst>
                            <p:childTnLst>
                              <p:par>
                                <p:cTn id="17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795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23T18:54:09Z</dcterms:created>
  <dc:creator>Waldemar Friedrich</dc:creator>
  <dc:description/>
  <dc:language>en-US</dc:language>
  <cp:lastModifiedBy>Hörstmann</cp:lastModifiedBy>
  <cp:lastPrinted>2004-11-19T10:17:27Z</cp:lastPrinted>
  <dcterms:modified xsi:type="dcterms:W3CDTF">2007-01-21T11:57:54Z</dcterms:modified>
  <cp:revision>110</cp:revision>
  <dc:subject/>
  <dc:title>Das Landratsamt Enzkreis</dc:title>
</cp:coreProperties>
</file>